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1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9527-BD21-4A60-AD19-26658C537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35CD-F90C-4534-B39E-EFFC6EADA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416B-2854-4DB8-8CCA-2E8FC5719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268-034A-44D2-8244-82547EC4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BB7-62FE-41D1-9411-45D0CCF3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BAD-2125-4FC7-A247-6BED77EC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1BC-8C03-4778-A86F-09D999A6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0AC-02CC-48D8-8841-0620D981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68E-F731-4290-94B7-D9C8870F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EF8-42D1-414C-9963-645553C2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CD5-B84A-46EF-95BE-F1DEC233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610-1E19-4788-9BC0-137F1A78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862-EDBA-443A-BCB4-D70C0EAE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04A-64E5-4CDE-AED7-F2954466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7AB-52B4-4BC6-972E-DCA150C3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DD07-F374-433E-B786-33D5DCBBA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Switches - Industrial Ethernet 3x00 Rug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200-8P2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200-8T2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200-8T2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P2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P2S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P2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T2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T2S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T2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T2X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T2X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U2X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558880" y="885960"/>
            <a:ext cx="40262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U2X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558880" y="885960"/>
            <a:ext cx="40262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400-8P2S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558880" y="885960"/>
            <a:ext cx="40262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400-8P2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8880" y="885960"/>
            <a:ext cx="40262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400-8T2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400-8T2S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400-8T2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300-14T2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300-16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100-18T2C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603520" y="1336680"/>
            <a:ext cx="39369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300-16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300-4MU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300-6T2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3368520" y="885960"/>
            <a:ext cx="24069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300-8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3368520" y="885960"/>
            <a:ext cx="24069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300-8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3368520" y="885960"/>
            <a:ext cx="24069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300-8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3368520" y="885960"/>
            <a:ext cx="24069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400-8P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3368520" y="885960"/>
            <a:ext cx="24069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400-8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400-8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368520" y="885960"/>
            <a:ext cx="24069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100-4T2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3390840" y="1336680"/>
            <a:ext cx="23623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100-8T2C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189240" y="1336680"/>
            <a:ext cx="27655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100-8T4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189240" y="1336680"/>
            <a:ext cx="27655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105-18T2C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603520" y="1336680"/>
            <a:ext cx="39369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105-8T2C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189240" y="1336680"/>
            <a:ext cx="27655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200-8P2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Gary Klapel</cp:lastModifiedBy>
  <dcterms:modified xsi:type="dcterms:W3CDTF">2024-01-24T21:47:17Z</dcterms:modified>
  <cp:revision>5</cp:revision>
  <dc:subject/>
  <dc:title>Slide 1</dc:title>
</cp:coreProperties>
</file>